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832C-CFEB-4F74-AC52-D035C2DE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A501-7F5F-4B34-B5DE-49A52D59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C8816-A546-47BC-9847-F659010F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02317-27FC-4AB7-A495-1876DD4D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D7A07-5174-4058-B57C-C8585DD0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71955-79FD-4CBE-AAD7-4123000B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9A5C3-AFDF-45BB-ACD5-AA40C5EF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21A65-28D7-475F-98B3-15B03A77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931DC-BD92-49EF-BF21-FCA78079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D8E4D-2B24-4ABB-B319-88DB0228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A8EE3-693D-40E8-BFEC-EB3590A8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17D51-EA55-440C-96A5-A9A62056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4ED0-5827-495C-8D69-A6AED0A7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04164-4BE1-46D4-BD4A-F886EEC6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98BD4-E095-43BE-B4CD-B3F60B86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B1800-9FF7-413A-89A8-871CBC55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CC407-DE5F-40FE-8534-9AD8E9D7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8068B-2737-41BB-81D8-32A41F41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9FF5B-66BE-4C28-9A61-D0A8C7EE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82CA7-DD26-4A20-8698-7E8160E4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C423B-037C-4174-A2E4-50A2002D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06B66-66C3-4237-8A89-EA38D58B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5923F-DB87-4E25-99AB-04FA524F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D8AB-6F7F-4EAE-9F5C-9F564BC8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D468F-F5D8-47F5-830E-FCAB5B3A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CE5A4-169F-4595-8174-64470D59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1B202-0DBE-4E46-BA86-E69DDFB0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3FD21-9764-4A00-A0EB-B6B20092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EE6CA-6D4C-414E-988D-B36CEB7F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79813-8F31-4153-98AB-70CFD7AC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AA26B-2C04-4BDC-B2B1-77656C8E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43555-8AF4-4782-8DD3-97FD8F52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D3499-AF4F-4F22-9D10-F2D76751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40363-B21C-490B-A132-8686FCDE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835F-D3D4-4CD9-9730-4A511CCA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C72F7-E665-419B-BA54-3654F96B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11860-EDA3-47E2-AE7C-73634D3E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E5C71-A510-40B6-9B24-905C8603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D25BE-2A4D-4337-88F0-6851B32E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4FD21-8EA1-439E-8B26-FF989CFF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546C6-8BF1-4710-9DD7-7B343D88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CF0DF-8442-4290-92CA-BF53B23F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31457-D15E-4634-90A1-2AB3355E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CF368-44CC-4136-993D-06ABE2F5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4B49B-1320-4FEC-8BEB-8E184B83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2EB3-7F7B-41CB-AD9A-34F7693D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D8711-89FC-4A59-A3AD-66D37B5F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7A791-073E-491E-8682-2A34FED0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74289-9C4F-448B-ABC6-3A28F28B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E8E95-95C0-430E-9087-A6BD058D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71D39-8500-45F2-B31A-370A4E6D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644E88-1F28-4934-99FD-51B32AB5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152B4-399C-4AC7-9A04-9C61D1EC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132920-C97E-452E-85F4-E6F9B8F6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34C23-9A73-4205-8375-824D2925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A4A9CE-1176-4745-8D1E-2E437F8E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EFF1-3A91-40FB-8523-79B2122B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6741C-6B06-4FF3-B531-8F5F5A0D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7684A5-2122-4855-9210-4C6C12BB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EB37B6-56EF-4864-8CF1-56912546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BAD42-ADB1-4E17-83E8-BF4A324B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DF95F6-631A-4ED4-88FB-1CA323FA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18137C-BA78-4D19-909F-38768E6B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EB110-127B-41CE-B22E-20D0331B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A5D5D5-8965-43B1-B856-361864ED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13A52F-F45B-4EC8-B34A-D87779C8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87DB52-A422-4F3F-9080-4EEE49AB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262D-8DE1-43F1-ADC4-7E446881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1DDC72-A888-4E55-AE70-545561BD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616770-3C88-4E9B-987B-CAD2B92F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4AFD82-93B6-44E6-81EE-2DF8100A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05316B-14C1-406A-BA14-CD9446FF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DE6197-1FF8-4666-AC60-02F0EF9D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D2021-9845-4FA4-9D1E-779BF1A9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F32A68-011E-4678-A023-411BEC30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DDC75D-BACF-4B3A-8DCB-900CAB84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189714-9FAF-446B-890E-0846AE65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3B567D-C416-4E40-ABC2-79C7D7ED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C822-563F-47A6-95B9-8EDAE680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89D9F2-36CE-41A2-817A-CDD7548D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DD7F93-A471-47A7-AE65-EED0F5CD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D21831-AE2C-4CEA-9C94-7DF8E709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FF4B31-BE79-4F70-9098-5BFDFB61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6E90A7-77F6-41A2-90CC-60D24C85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879F04-08B3-4858-994D-860F2287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F49CCF-6427-41E1-AF53-4D45C8F1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44C0C8-7586-4A4B-B40E-8C18E343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A3A221-443E-4476-9DF8-E881C219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F2D94A-DF1A-43D3-83E4-6A74F493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FA27-937C-44CD-8B48-D8C0188D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272453-0FDF-4F51-9DDC-339F94BF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711D00-669F-4C72-AD92-4C9019B6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4DD271-4A36-4C6A-B9EB-19682CCC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A59B10-3003-4DCD-9BD8-F3EAA02B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1F2199-2888-4F13-8C83-00E17FA0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8538F7-B151-4A01-8E8E-A548BDDC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E491D-556A-47FB-9F19-49353FEF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45C1F9-AE22-4F65-B34F-C2832639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EC4FE9-F64A-4F51-A91C-7204EE73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510373-7EB7-439F-A2D7-13C70074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85F0-A12A-462B-BDAD-58D996A7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03F19A-B714-4F3C-9062-6F1703FF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623F16-4F61-4BDB-AFF4-1A3A9F78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075F72-8F5A-45D9-82A8-1C0F13C2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56B22E-C173-46EF-89DC-7F14520E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B706A9-ABBE-4297-8D90-16E719CA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50335C-CEA2-4819-9F46-73F7BEEA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50D92A-30F8-4277-9A27-4DE7ACDF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A8B217-6122-499F-9A98-AABFDAC8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9DC914-4D1D-4FFF-816F-CDF6E2C2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9F3759-4742-445D-BEC5-2B8F4B3A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6AE-6F37-4CA8-8304-E19D957C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6363-3400-4CF1-BCB1-03C43A20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7B8CD8-78C5-4039-B1D9-DA7D941C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F021AD-B2FE-4944-A829-ADEF5E88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B23067-CA8C-498A-8F20-5B77ED8A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981E6F-B87D-401B-B9C5-33CBB22E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529C74-CC9D-4150-B121-D412C229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D2365D-7CD2-4A0A-9DF6-B66A9A58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510969-7008-444B-88DF-04B1F8F8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D025DF-7E19-4E0A-8566-D5DD91D5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6230D8-A4D6-4876-BEA9-100841BF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B5AC12-009F-40F4-8749-D664EAEC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2B1D-EF63-4A6C-9B7C-BEFB78C0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39905B-197C-44B1-87DB-F9FB7BE9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FC5C88-594F-4136-8625-D69EA467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653AEF-B8E5-4CCE-BD9C-4A84DCC4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90DFB7-0B73-448F-A320-E9F91917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E5B6BB-7FA9-4642-8BDD-C09A218C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A7906D-0562-4976-9A2D-31EAB166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32E3B9-A5C8-4990-91A4-EF3153C2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2F0CEE-6581-4A7C-BC78-3A49D2BE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61EECE-B1A2-4129-BF84-2A278B0F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380C47-F1A2-4CD0-A40C-5BF26D73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F24E-9965-45C2-89E1-A049B6CA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B52AC1-1D40-4A7E-B0B1-45D9FA6D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33D304-C944-4228-8919-688333D9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A5A8F5-EE80-4F78-A710-3E8CEDC9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63E8D4-7B13-40F1-932C-C3F95991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1E8030-7D06-429D-99CB-DBD7F888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A0E3BC-47F6-4CAB-AAE0-4EB690AF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09E5C3-EE87-407B-B13A-4C0E00C4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B8490F-0D60-4D7B-A906-161BF684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52C20F-7409-417E-91BA-465A7F53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6937E8-EFE3-4692-9973-5E530412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E9C0-D0DF-4EF9-8833-37A43EDF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C316BC-56EE-4780-8D75-4A7283B1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1AA970-7473-470B-BE03-0B422B71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C4358F-084B-4D9C-906E-EF4A570D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D17500-CEA1-4872-B11A-7E9EAC92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31BF59-5E44-4C75-B749-FE5CFAD1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7F23E9-4064-4DA3-A318-5DDF505B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7ABD29-A4EF-46CD-B9A3-FE680F27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0DE8F6-C827-4EB1-8C9D-C8C9D205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32A904-F844-48BD-93CC-EB105000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88EED6-2473-4A38-87B8-AC055F2E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9BB5-124F-422D-8EA4-3D5C6D95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9BFFEA-8575-489A-8690-58F80D24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FF4A38-C877-47DB-95B9-6563B9B4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511E11-367F-48B2-9F08-D83033EE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A9C5E4-17B3-4C95-AA64-63A0AF4C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9258FB-16E5-4B2E-9547-FBF4BD8A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C72016-373B-4458-AEB8-E4F034BF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8A6D9C-079C-42C1-8F9C-2AE40481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89FAC4-F2EE-4E71-9A62-C13AD1C1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DADA9C-572E-4DDC-A719-F677EC7A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AA7DF2-FE32-4C74-B66A-5AC8FA67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DD30B-67CC-4FF7-8FF7-670C5F8C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748E03-8BFC-4691-AB95-64225E8B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435532-A358-4B0C-8F6D-237790F1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E67EAF-DCB3-404C-ADAE-0C2EEA76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76085-4DF2-4A75-A405-6244F086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098EA-4B6C-4FA5-A65B-95356FF7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EE26F-F3C3-47F9-89B2-9EB228A4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3253B-7C18-4397-B298-B8C6B9E5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A7A9-0C85-42B5-8D0C-11F7D596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CB9AC-E52A-46EA-B20F-404A5078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43844-4849-48B5-B4F8-2AFDC675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D4D88-267D-4A7F-A063-CFD80948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08749-8F07-4638-BCE0-34CB290C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AE895-D4F5-42CC-837C-214D1384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29EE9-FA93-4903-ADD2-2ADDC5A6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179FD-42D4-4F5C-9D36-79A23CF7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902D4-34B4-4EE5-A481-1590CF3C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B840D-D94A-4E59-8E1C-4466BF24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E9531-ABEF-4B03-B412-7ACDBC4E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6C5D-7282-459A-945E-B87B40C4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2EBBF-C3D8-4C4F-9CB8-68F133F7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E9B0D-31FB-4F13-AF9C-A075A890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3B7D6-B0BD-48D4-A966-ACD8F45A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41D0B-73F3-40E9-87C2-96EF0733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EFA53-0A98-4E37-B3C3-F29F0CD0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0125D-9450-4AFA-9A4B-6648CDA7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9DD1B-B286-4171-973F-007BCE8D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FD5AA-8D05-40DE-B6AC-67F406F0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210FD-76A5-4A6B-9AE6-A277CC77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89FC4-CB42-44A3-B688-3396F84A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A96D-8DAC-45B7-A881-8849F935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0342D-3E66-40B0-9A0D-0D0837A6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552BB-3504-4ED1-97BE-20989423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5DCA7-34FB-4662-9D06-7B0BA30F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8CA21-BCC4-4DA4-921F-4477A5A1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EE8DD-0875-4237-9949-680230C9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3AAF9-9533-4809-844F-BC3039F0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D8D13-457D-4D72-9FB9-13708283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F7501-BA04-4115-AE47-01BB64FF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6990C-41D7-4B39-ACA3-0B8BD2A6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21F5D-B42C-4BB8-881E-74993E40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9965-AF48-4DA3-B4CD-E4238438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DFC8F-7FCB-40E6-9BBD-33317D69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71711-1D39-4C8E-91CA-ACD7ADC9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70478-157A-49A5-883C-581EB436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137CC-0DBD-4790-9E7A-A7DFCAF2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9F086-7812-4B2A-BF10-7CB69635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385B0-9342-4592-85BC-471DC646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3F8D6-0056-46CD-A7A8-70AA37E8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68288-B57B-4643-8C22-C0F8EF8F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0F5B3-E041-47EA-81E5-3AA37ED7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DD944-37E5-4F6E-B2C1-AEE33B29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A915-45AD-4DCF-B8ED-C09D3D02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70E95-A717-4C82-B863-B8F167AE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83770-599F-4D82-BCBA-BDD2786D9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CBF62-B686-4233-B39E-35310C99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03890-E321-4774-94D8-B2EA060A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BFB61-88B7-4AEF-9D6E-E03CBF69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70395-9453-460C-9AE0-5DFAC866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2C522-CD76-461D-86E6-45462E4E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CDF84-C43F-4BAF-A126-F855D00E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8C8A8-86A2-4573-BEB5-B233B859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F1AEF-7071-4ECD-B513-1630FD1E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2E89-D27E-4972-9399-A5BF41D5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D403A-4501-44F2-8854-C89DE1A2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173FD-BE2E-4839-919B-2A7AD1C9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27EF6-F311-48B7-886D-A10E8436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9E46D-F219-41AD-9D53-76936603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9927A-305C-4041-BE35-5E648CB4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56456-A70C-4D83-86F4-55C2ED64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1DE3C-B948-4FD6-8D6A-A7741A58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0F958-2F3C-4BF2-B38E-84AC0BC1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BC9E9-2AF1-426A-8A00-00ACED93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1C169-11BA-4FC1-93C2-14F721FD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DF1-3084-49BA-A4E2-D5EEF7E6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1E75A-7127-4F17-BF8C-D82C216B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46EDA-C95F-4D5D-9B87-14CFCF7A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45401-55B8-45A1-93C4-65DD095F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F204B-BDAB-48E6-A9BA-06544CBA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C8067-F45A-466E-AB49-755363FE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A3A7C-4885-414C-AE3B-C169090F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71E63-568C-4876-8599-63B42042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7A681-1EC0-4B93-A0DD-CDA72E2F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E0F2A-953E-43EF-9624-61B20F3C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2304A-14B9-4A53-A104-F930A96A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BAE0-1C1B-4331-A92D-F252FAA838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1480-4D65-417D-8EC0-51C7151E0F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0E9A-9776-463E-986F-A2DE5D9DF9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2D7E-B9EF-4CFD-813A-C6756334E5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B78B-E1C5-47C7-8CF5-0E6942AE69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500C-2DF4-48E6-BEEB-92E81A07BA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49ED-9B3A-43B2-8952-3B5ADACC84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C44D-D1E5-4873-9B9C-9D732C8D29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1B0F-F34A-48D2-B4DA-313C730EBE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C9F6-4187-4903-8E0D-D0ABF55222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B713-22C6-4187-BE97-0CF20A7A0E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7CCA-E984-443B-BCDE-D8A77D3F6A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500B-8BE7-43EC-A8DC-35927C77FF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3EE2-77FF-488A-B8DA-559CE82FCA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5E32-A368-441C-B5F2-EBC9E23F2F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A121-51A1-48CD-A02E-81ED6CF5E5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A859-79A3-4BE3-8CAB-359E7A8039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23DB-6B30-44AA-8096-1080FAE780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A491-1AE7-4810-850E-D827E68FB8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D72A-CD1E-4F21-82C4-8AE78B07ED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7BF2-7628-48A7-9477-90B3745522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1BDC-05E8-4421-B33C-073191A26D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0002-EC4D-4152-8A7E-615FAB7C40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AF33-D651-4B4C-AAA8-8A5148D76C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A332-43A8-47E2-A8D6-A8298EA920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B6E4-01A7-4D0E-B077-17455F982B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3EE3-F042-47A4-8F45-4877FBCB34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CA38-9406-488D-9770-AF5D2CB23B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D520-129B-4D10-810E-CF3E5BA8F5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3CB5-89A9-4576-A41A-844D64FD19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EDB9-AB51-4851-A747-7F570614A8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7949-3F9D-491A-B56D-8869350F50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775D-0988-4699-80BC-4A52FA9304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D6C5-50F6-4C15-9BB2-F5437509DC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EECA-0B04-42CF-9A08-02CD986E3B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2969-9429-4534-8574-32B4A7BD86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5EEB-CA4A-4455-827D-688EF51D7B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129F-6D3D-4452-863E-44A45BB88F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D30F-E84A-44E8-A19F-D35E8C3D00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D426-4F7B-455C-A8F2-A30F96C22E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23960" y="3152880"/>
            <a:ext cx="40960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47600" y="1085760"/>
            <a:ext cx="8848800" cy="46864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700360" y="2593800"/>
            <a:ext cx="244800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211640" y="2943360"/>
            <a:ext cx="244800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050920" y="3313080"/>
            <a:ext cx="244800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68360" y="4095720"/>
            <a:ext cx="244800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95280" y="4479840"/>
            <a:ext cx="2448000" cy="257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68360" y="4807080"/>
            <a:ext cx="244800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395280" y="5157720"/>
            <a:ext cx="2448000" cy="2574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244800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438120" y="2157480"/>
            <a:ext cx="8267760" cy="2543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755640" y="3270240"/>
            <a:ext cx="237636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755640" y="3635280"/>
            <a:ext cx="237636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684360" y="3971880"/>
            <a:ext cx="2376360" cy="257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755640" y="4302000"/>
            <a:ext cx="237636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8373" descr=""/>
          <p:cNvPicPr/>
          <p:nvPr/>
        </p:nvPicPr>
        <p:blipFill>
          <a:blip r:embed="rId1"/>
          <a:stretch/>
        </p:blipFill>
        <p:spPr>
          <a:xfrm>
            <a:off x="128520" y="1157400"/>
            <a:ext cx="8886960" cy="45432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201600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324000" y="2070000"/>
            <a:ext cx="2016000" cy="257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324000" y="2411280"/>
            <a:ext cx="2016000" cy="257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395280" y="2771640"/>
            <a:ext cx="2736720" cy="257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395280" y="4897440"/>
            <a:ext cx="273672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7"/>
          <a:stretch/>
        </p:blipFill>
        <p:spPr>
          <a:xfrm>
            <a:off x="468360" y="5248440"/>
            <a:ext cx="345600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8"/>
          <a:stretch/>
        </p:blipFill>
        <p:spPr>
          <a:xfrm>
            <a:off x="8450280" y="242100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9"/>
          <a:stretch/>
        </p:blipFill>
        <p:spPr>
          <a:xfrm>
            <a:off x="8326440" y="285264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0"/>
          <a:stretch/>
        </p:blipFill>
        <p:spPr>
          <a:xfrm>
            <a:off x="8317080" y="324180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1"/>
          <a:stretch/>
        </p:blipFill>
        <p:spPr>
          <a:xfrm>
            <a:off x="8450280" y="365436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2"/>
          <a:stretch/>
        </p:blipFill>
        <p:spPr>
          <a:xfrm>
            <a:off x="8666280" y="407664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3"/>
          <a:stretch/>
        </p:blipFill>
        <p:spPr>
          <a:xfrm>
            <a:off x="8666280" y="449424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4"/>
          <a:stretch/>
        </p:blipFill>
        <p:spPr>
          <a:xfrm>
            <a:off x="8656560" y="493236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5"/>
          <a:stretch/>
        </p:blipFill>
        <p:spPr>
          <a:xfrm>
            <a:off x="8647200" y="5300640"/>
            <a:ext cx="2872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52:20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